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26E-DE18-453E-B43E-3007143D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934-57A0-4E32-85CB-A75870E8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801E9-8238-4C0F-BDC0-E243015C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BDB05-8292-4BDC-829A-BC14DFBF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60EDF-DB9B-42BC-9D96-4C3BBC1B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52C1B-0B05-40F9-98DE-31ACC70A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A61FC-96FD-44BB-AB0D-2189FD6F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B1136-9916-4879-B82F-892DF55A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36832-12DF-4E9E-AB91-49EBB124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28ACE-00DF-4CD8-A015-06ABCC8A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497AF-7E86-4098-9295-7B4B117F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7D538-86B1-4164-AFFB-791C566B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AC7-6FB5-4FD5-AA59-57F7CD6F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F4201-3638-46BB-A726-E74898D5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1D2F1-975F-434E-BC3C-36E928D8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2A53C-A9B2-42F1-95AC-374CF729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B66F7-7899-4DF7-8434-8341B027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0EF65-128C-4490-A175-81BCD1D5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F3291-1B0E-4132-A02E-0AF7A231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C006E-DD7F-4D98-94CB-BCCFF8F1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BA7C8-39B5-4369-8762-7BBF2530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01E34-0496-4B8E-8DE1-A0456818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6E302-A3B7-40C7-AB4A-BA550380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A3C-409D-490E-9ABA-D389CE2B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01972-AA2F-4DBF-BD1A-1A3ACA35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78358-A0C2-4831-8788-FB9B2640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FA12E-AE44-43C7-8D92-0E2CB266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5F876-41C3-4CE6-8AFD-98EA10CB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C1908-110D-481F-9E2F-DDF76142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585E8-1E59-437E-A788-18E19273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8C0CB-FB7B-4BA9-874D-743867C1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C7F5F-4664-4A21-8778-CA16C21A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7CC1D-53C7-4EE5-A9D6-425AA71D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85025-2578-4557-8A9B-5BDAABD4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0246-EFA7-42C2-94F6-477AEE70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5E70F-3C96-4747-9471-35C97EFE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37E26-7570-4B9E-BBCD-3EFCEAC0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2317C-542F-4D16-92A9-5CFAB2CA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21599-689A-400A-A86F-0BE3186D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33B33-DD18-4D52-8CDB-93565C2B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8D3E9-7B0E-4C95-BD8E-805FE528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7B4A1-DE33-46C5-930E-109DE741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0D51F-408C-4341-B421-171582A1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A8D85-BBA7-424F-95D7-A5485E34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72828-2098-42DB-B5A7-20D86F82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E032-14A8-41B6-8867-72F8ADA0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DF425-D96C-42F4-9B9D-451DAC4B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E90CA-8841-4658-93C8-63EAF32E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74AB2-B7F5-4F10-93F5-A33F3987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1EA12-83E8-4D8F-A7C1-D80D088B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9AA30-96E6-4EC3-9E14-63FCD6D7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19A0A-5042-4E4C-B88A-4F791DED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0FA02-8C3B-4D84-B00D-CF6EB150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D3BD3-B502-4CCD-BCD0-D37D0F04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96AD2-4B72-43BC-890D-22E1A7AF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7BD9B-AAE7-4B72-9132-64AA5459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F156-6169-4D04-8121-5D663217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9D22F-B88E-4D40-BB65-1DDF78A2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A94AC-AF1A-42EE-80D1-AFCAD11D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01CF4-0AC3-4C83-ABC6-E1A59111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30F9A-70ED-4622-8A5C-C7A986F8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18E05-F6DC-456C-B9BA-21465378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7D499-179E-4B32-A89A-F9E44C28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A6641-2BB5-449B-A1D5-41FB3175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37717-0F58-4654-B1D4-D0F9094B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3C6BC-A9A2-4D3D-9298-252A2B4B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FF019-B550-40E4-BED5-09BB3FB7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F89F-7A6D-4971-8F42-C4452F77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D0675-6278-4B49-A0CC-CA6E9E9A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DA711-F058-47E0-BB1A-5DCAEE0C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A6C2F-2677-4BC0-8839-886D5F82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B2937-0AAE-4565-898B-5DEDAF2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6F146-D5D2-47C8-80D6-0F027049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F85C4-063D-4BA2-8773-CB1EDD7F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6271B-A0AF-4C7A-9F4B-9A3E69FD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3B467D-7511-4469-9FC6-AFCBB6A1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54D02-5E15-4EC2-9E55-C283F2E1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0F4CC-F3F9-4E08-B46C-A2B659DD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29E4-FF28-4915-B82F-91B2F5AD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D3B0A-4B89-4291-A111-6D95BE61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DECD2-EF6C-4898-86F0-95C8B139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7C15C-058C-4182-A558-1A7C94E0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5F313-0DB4-4413-891B-53D924BB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895568-7BFB-4E24-B593-AE3190C3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FDC4E-4E7F-4FA6-B1BB-EB1DE18F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FEA210-CE3B-43EA-B75D-CDD3B369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3CA04-1393-4D81-880F-83DA4FDA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E605D-7AD3-40B9-92E6-AF607E4F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E3BA0D-3EB6-4257-BC28-3E1A86E4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93D5-5E0C-427D-BBC6-1D25EBE8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681535-09DE-4C93-A86D-CC140C10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88359C-5A95-4825-9A99-901AAA90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FB110-BC9A-4D6F-8182-E67C5015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91FF5-DD31-4D75-9018-9027E895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57DEA-BC95-45C6-9276-94DA9678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6F845-6AA4-4CAC-B937-08FE5BF0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6CE67-AEF6-4F4D-BE86-18D26EB0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E5A65B-9B51-431D-AA44-A8207964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2674A-240E-441A-9A25-E74264E1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0F7E3-0C18-4E56-9BAF-736D39E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B335-E3F0-4130-A13A-AEFCB516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4F9D16-49AA-4013-B213-75291B11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BFEC3E-D393-4393-A0F3-805E67B5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FDA19-3D4B-432C-9D46-5D58083A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9BB436-5B7E-49BE-86E2-774335BB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D8CE1-8CFF-4022-9A63-0300C2C0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72A06F-F705-4870-BE84-4E1FB160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584E1-E43D-4F9E-8DB8-6BAD8479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3C2C0B-D58A-4E36-A6F9-65530427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B7B73-357A-441A-8DFD-E3E34639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BDD28-EBEC-4F64-9E71-52670A13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65A-FB70-46D5-94DF-6F836822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0BDF-FE8A-4484-A455-CFC605F7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FB56F-2DE3-4FDF-91A2-94B3CFF5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34C17-E261-4BBC-A0B7-C8503755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188B4-E1E4-4ECF-8557-435B9CAC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9F3C4B-2E22-4584-B5A1-73BC4B6B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B8175-8636-4CC2-8860-B979BA6C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D16914-8B1B-4D96-B3AA-8E4D237D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36A26-07C1-4534-B070-43CA6990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C2F3B1-8680-4697-ADAA-5737AC34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B36D18-0D7C-43A8-8E6C-55F79399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629AB-25A7-43EE-BA53-34D40A73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8702-4F38-490A-9DB5-CF7A3B9D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D2236-3E56-4ED4-B7A1-53E0A7E1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A5780-FDF4-4817-B0EE-1D046ECA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A2839-6EB5-475D-B3CC-D52A07CB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69E4A2-1BEF-49E8-A236-7E795702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266B51-6720-4EFF-B102-FA6DBBBC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8304C-8869-4880-A98A-2DCDDF30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BFB34-8ADC-454D-9306-F8B62D3F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F5D9C8-23B9-43BB-9A1B-3A158DF1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20523C-5454-49BA-A68E-FCF4BED1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E91304-E248-4F54-85E6-DA8518CA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B6FF-53B1-4091-B09B-0A484A82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2068D6-816A-4C89-A6DD-81C08073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126D5-548B-451B-BBE9-F8FF99C2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6E81B-8F1D-4249-8E46-8D102C3C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E9B6F4-DFE7-4B15-8410-1D6C6120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4C6E1E-557B-4516-85CF-20B2B9A1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3842B7-81EF-45A4-ACF2-7D2DB360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9683C-9494-44B6-A31B-140B1AD7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49E020-4BB3-4E40-ADA1-37FC64DC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3A6A5-120D-45BF-A3D3-2D630A0A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4B6FD8-0E5D-4CB1-BC72-8E84A90A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256B-552D-41E6-AE78-7FA88DF2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C82597-DC0E-44FE-854E-DDA4A735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15CAAD-1E9B-41EE-857A-1FDF9EBF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73C7C0-D60F-431E-9B28-2B4DC778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5963FF-2B38-432A-AF08-49F93CB5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998DDB-FB38-4BBF-8622-28E2A42F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174F5D-C6CE-4A63-8C44-ACF91DE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837DD-02ED-4CA0-B92D-D54A6CC5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4C3713-10E0-4AB9-BC47-1158D04F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BEAEA2-3BC4-4C2B-8CC3-F680D625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EBB5F-2798-4357-9CD5-33F618C1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3E93-0838-4B60-B0E2-4D22B80C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8CA18B-A1C1-4CC6-8F00-1A2103AE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4E21C9-3649-4281-8229-3AF01F2C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F9F3AD-2EE6-41AC-A49F-BA12B911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F4F086-1A3B-4257-B33A-321AD50A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F872FD-74C8-490D-8C1A-AD6700C5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24F107-EB52-436F-BF01-6FA96A12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196944-07A0-4954-ABD7-8C83A6BA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DA93E8-F51E-4819-9CBE-105339FB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A87FEE-9D1A-4F60-842B-A38BDDD8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CCC9A-94CE-4A84-9A77-4B1BC5C6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9756-89D1-45E0-A434-8B732E6A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3FB285-AFE4-4C3A-8B2F-E852B935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7708F6-8B89-4992-9A12-4F3B2B64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0AAA2-8EDB-48D7-941A-586E8C2D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38DE-6414-4399-8F27-FE2DEFA9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A87B-C7C0-4584-8353-0777E950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79F0-3097-43C7-BDFD-F7FA4040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443C-9CD2-4F86-8264-07D2509A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4D85-321C-4CE0-992E-774FE3A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5D0F-CE07-4F00-ABEC-1AB87943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A98A-B2B0-42AD-849F-406440F0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1B5F-8739-4275-B364-071567CD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6125-12A2-4787-826C-6EC75E29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09C5-90BB-4F7E-8AA5-65B213D8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830F-1A4E-453E-89D3-B01D6926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AD10-33E6-4F0F-A11A-0BF99A3E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3CF9E-BBA8-4737-B835-3F7B8EB6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4B58E-701A-4EAA-AC22-CB9FBDEC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206A4-8346-4199-92EA-0E20E64C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898-2D20-4157-942A-9C49D178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53B4-E551-4010-8D2C-DC3776B1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182A-5CB1-479E-9857-172333DD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349C6-1F45-4C81-AAF8-A0078C68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832C-C26F-46FA-AAEB-044A0007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4EB0-8353-4C3F-AAA0-B92F5871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D236C-0CCE-470C-89C7-ED9BBA20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DFFE0-0516-4774-9F7E-C03AF487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B7515-1D03-40A2-AEE6-4FB4009E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15783-2537-49B1-A859-F4E39557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5FEFC-854E-4FBA-A0F4-39C420CF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858-7091-4EDB-84BD-EAEFF44B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4DD1C-2646-4691-821C-5A4C4BCC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FB4A3-E8F0-4A82-BDF0-53BB9114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5C638-CD02-49EA-98A7-54F7D3AC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9AB55-F908-4A7E-BC53-BBF84B1F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4112-F3BE-4F15-BA98-C4706669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9184-A2D9-4A9C-B918-256CF240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ED787-5B67-4D68-BC5D-F519E8A4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9F513-F3FF-4B9B-8F65-935BDA52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72B4-E592-40E4-B776-FB34E2A5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60C5C-1511-4B23-A042-44D47DEB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4B1-B248-4376-AEA9-070F1928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8B8B7-6773-4CC3-846A-D9A7A9C1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2103D-839A-4925-8569-17DBCAAD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89CE2-F75C-4253-9685-702C9C20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1159C-090E-45C4-8981-C6BB9EF3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CE9AD-702B-4EA4-BDD6-40A40B4F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DFA54-175D-4F5A-AFFE-986BFE9C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DC6B7-0587-42D3-A019-92E4096E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2A40F-2AC2-4A1B-8F9F-8B3FCC71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F5116-64A4-4995-BDD3-FE530377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58987-7DA7-48FA-BB19-75FF2182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6A8-0413-4FFB-8880-57DE962C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187BE-1FBA-406A-A298-BCF4A396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FBE73-4AAB-4E34-8F1A-4E5A9045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2F6F4-4175-45E4-92D5-9E62D6C5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6A719-F67F-4B04-BF96-4C4023E1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1754B-A8A5-4FEB-A25D-3589BEC5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6E72F-FD05-44BE-A756-D314FDD3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D1768-7A7D-48A0-B8C8-B66E6551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A7C09-3EC0-48B5-B06B-6275EB08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74A4A-A584-45D1-817E-6F508104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B6A43-8292-4CA7-AB17-3C650D97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A8F-AE6F-4AAE-8DE4-6BB06B01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EC0ED-E15D-4978-B18A-9E117495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FD2A9-A649-465E-B803-7B6B3FB3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B8205-DB46-4962-8F19-6B866E6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1E832-ADAB-4602-B8BE-BC203A44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700D1-68ED-49DC-8D15-A08D6552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86201-7475-43B8-991C-EA7001C5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DB930-A07C-4E49-AFF8-8EFA901B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D7159-0318-46F1-B0F3-589ACD45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46A0D-2FDC-4B0B-BA87-5B9E627C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ECDF5-007B-4402-AAC5-F7147F33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32B-CF00-42AB-9C10-A1FDE09C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EB10C-7BAB-48F6-B9A9-9ECA7062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1F622-B630-40E5-B397-D86B815B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86FF0-67F0-49CD-905D-5333EFF2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6C54A-0992-4396-975F-136B1DAA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20255-672E-42C5-A858-3CC6AE78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42B1B-C396-4674-B2E1-0545B761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860C0-AC1E-45E4-9734-BE29064F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5C2A4-3DA6-48BC-8889-E7BEBDDD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89EF0-F3C6-4FA2-AEE5-604CEDD0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A2047-E709-4303-8C36-23540545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EC95-4C8F-4E23-80AA-C655B7DAE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39E4-D094-4B80-885D-B254BFC9AB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4AE3-24E3-4383-A9A2-4082987B9C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0C1C-F9EA-4BB6-9A2E-0F213B68E9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800D-20B4-420C-AEAB-7EED694BF0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6E10-1B45-4DB9-9616-EA68083E45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9633-FD3C-4CF3-A723-07FB286EBD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7677-7F3F-4554-86DF-50DF60746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BD03-9BC0-4030-91DD-70D1BAE95B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5B32-74DB-4B37-8695-30E78E0FB8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A827-644A-4685-8A29-7D17F68480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89A4-BEF8-42B8-97FE-EE4476032F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0C06-7BD4-48CF-9C8E-FD2C0D8D2D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3356-DAE8-4FED-B845-1CC20D46ED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5590-8692-48D5-BA01-3B2A08CEEE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092A-CC01-4E73-A05B-DFD1D9C474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5BD8-48AC-41AD-8031-322CA6464B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4E2E-B58B-4DEE-A783-9DEB5C5613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86A6-322B-43B7-8921-846CF11646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25A3-53D3-482D-B526-DB634D6AF0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FFEB-006C-4904-A964-B549E4E959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7050-782C-46A5-942D-C4569F3693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2366-574A-41D5-A0E3-1E2058AB1F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0F3E-8792-4648-9337-9F232CFB91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DD9E-7291-4B1B-BC65-5E698A167E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EF59-0B02-4E05-95A8-01A1CE8493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694C-22D0-49F6-B0BD-51C8E7D115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F094-3D7A-49C5-93D4-2D057C158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8F34-8DC0-44E2-80C7-E0E899EA11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3A2D-578E-44F7-ACC7-0D99E5E8DF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8FAB-8A21-48F7-BB61-17992791E8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B6C9-60FD-41F1-A892-C9B6EDEDFA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9ABC-BBC1-462A-9AC3-961A4C5BF3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D0AB-E5DC-40BB-B1AA-6D7B8A51D7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1009-B476-4C9D-BBFC-12A9C4A263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0595-AECD-4D98-B183-7640A55119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7B3B-98D1-45BC-94E5-3B9B583F59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7448-4248-4A45-A872-66F7B6BA20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C7F7-AC7A-4029-AC1B-97A967D89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7FF3-F1BA-4087-8E39-88E2946DAA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90440" y="3152880"/>
            <a:ext cx="87631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00080" y="863640"/>
            <a:ext cx="8942400" cy="56181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16000" y="2708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16000" y="5300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47600" y="2038320"/>
            <a:ext cx="8847000" cy="27813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230480" y="29383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385128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6588000" y="2867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1187280" y="39481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3924360" y="40053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52280" y="1076400"/>
            <a:ext cx="6934320" cy="487512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" descr=""/>
          <p:cNvPicPr/>
          <p:nvPr/>
        </p:nvPicPr>
        <p:blipFill>
          <a:blip r:embed="rId2"/>
          <a:stretch/>
        </p:blipFill>
        <p:spPr>
          <a:xfrm>
            <a:off x="7362720" y="1352520"/>
            <a:ext cx="1619280" cy="4932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111600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111600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1187280" y="4869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85680" y="1816200"/>
            <a:ext cx="5191200" cy="46656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2" descr=""/>
          <p:cNvPicPr/>
          <p:nvPr/>
        </p:nvPicPr>
        <p:blipFill>
          <a:blip r:embed="rId2"/>
          <a:stretch/>
        </p:blipFill>
        <p:spPr>
          <a:xfrm>
            <a:off x="500040" y="2525760"/>
            <a:ext cx="8142480" cy="30765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826920" y="2492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4500720" y="249228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82692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4500720" y="3127320"/>
            <a:ext cx="50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02:04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